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5FF-37E8-431E-84A3-E1A21CAC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0A6-A774-42D7-A017-3A17B188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B07-2A1B-4080-AF65-4149EAD3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D77-D117-4D02-8FA1-E98BD575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776C5-C579-48E4-975F-58D7351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0C27-34C2-408B-8FAE-2C29E8A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7BFEA-971F-4896-B5DD-1F7D668E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84F75-9961-4708-A94E-3849024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F4CE-3DA7-4415-AD2C-5FFFDE9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AC09-7876-4E21-898E-DF9EB98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7E89A-E8DD-4EEF-9844-A34C708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977-F025-4DE5-B908-37FA0DD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FC7D-B106-4DFD-BC22-999458F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8B549-5CD5-42E1-9763-CC22315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E1BC-62EB-41EC-91F7-244131F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C7EA9-C005-4B8D-8466-44511485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4AEAF-7E52-42D6-AE1A-E4430D4F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9D9-D1A1-4CA5-ADF0-7E749A08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49E-1E40-4F1B-A8F2-7326AE8B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93C-61D6-4536-92E7-BED1D1E7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1A4-CAC1-41A9-B4C1-F641EA8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F00-FF4D-47EE-A61D-2070F44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351-4750-4BF7-9D45-A0D4F69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120-8494-4EDA-8C6C-6F52B31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2D02-7A7D-439D-B98F-17CD8583A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831-A33F-4782-9F08-729B4F1C8F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ция Скорорыбского сельского поселения Подгоренского муниципального района Воронеж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ЮДЖЕТ ДЛЯ ГРАЖДАН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на 2022 и плановый период 2023 и 2024 г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муниципальная программ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ая программа – система мероприятий, взаимоувязанных по задачам, срокам осуществления и ресурсам, направленных на достижение конкретных целей муниципальной политики в определенной сфере социально-экономического развития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целях повышения эффективности и результативности бюджетных расходов администрации Скорорыбского сельского поселения принято решение: формировать и исполнять расходную часть бюджета через реализацию одной муниципальной программы. Бюджет Скорорыбского сельского поселения на 2022- 2024 годы – ЯВЛЯЕТСЯ ПРОГРАММ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, направленные на достижение заданного результата. При этом значение показателей является индикатором по данному направлению деятельности и сигнализирует о плохом или хорошем результате, необходимости принятия новых решений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ая программа «Организация деятельности администрации Скорорыбского сельского поселения Подгоренского муниципального района Воронежской области » на 2022-2024 г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125360"/>
          <a:ext cx="9144000" cy="5732640"/>
        </p:xfrm>
        <a:graphic>
          <a:graphicData uri="http://schemas.openxmlformats.org/drawingml/2006/table">
            <a:tbl>
              <a:tblPr/>
              <a:tblGrid>
                <a:gridCol w="1974960"/>
                <a:gridCol w="3433680"/>
                <a:gridCol w="1244520"/>
                <a:gridCol w="1246320"/>
                <a:gridCol w="1244520"/>
              </a:tblGrid>
              <a:tr h="811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униципальной программы, подпрограммы, основного меропри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по годам реализации муниципальной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4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ая програм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рганизация деятельности администрации Скорорыбского сельского поселения Подгоренского муниципального района Воронежской области на 2022-2024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15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00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45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Создание условий для обеспечения качественными услугами ЖКХ населения в  Скорорыбском сельском поселени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04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Вопросы в области национальной экономик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Защита населения и территории Скорорыбского сельского поселения от чрезвычайных ситуаций, обеспечение пожарной безопасности и безопасности людей на водных объектах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Финансовое обеспечение передаваемых и переданных полномочий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9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2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беспечение деятельности администрации Скорорыбского сельского поселения  Подгоренского муниципального района Воронежской област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5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1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7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814716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«БЮДЖЕТ ДЛЯ ГРАЖДАН»?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юджет для граждан» познакомит Вас с положениями бюджета основного финансового документа Администрации Скорорыбского сельского поселения на 2022 год и плановый период 2023 и 2024 го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житель села является участником формирования бюджета с одной стороны, как налогоплательщик, наполняя доходы бюджета, с другой- он получает часть расходов как потребитель общественных усл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е – и как налогоплательщики и как потребители общественных благ-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пенсионерам и другим категориям населения, так как бюджет муниципалитета затрагивает интересы каждого жителя посел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ОЗРАЧНОСТИ (ОТКРЫТОСТИ) БЮДЖЕТНОЙ СИСТЕМЫ РОССИЙСКОЙ ФЕДЕРАЦИИ ОЗНАЧ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362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е опубликование в средствах массовой информации утвержденных бюджетов и отчетов об их испол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ая открытость для общества и средств массовой информации бюджета, обеспечение доступа к информации на едином портале бюджетной системы Российской Федерации в сети «Интер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бильность и преемственность бюджетной классификации Российской Федерации, а также обеспечение сопоставимости показателей бюджета отчетного, текущего и очередного финансового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ный кодекс Российской Федерации, статья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ПРОЕКТА БЮДЖЕТА СКОРОРЫБСКОГО СЕЛЬСКОГО ПОСЕЛЕНИЯ ОСНОВЫВАЕТСЯ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юджетном послании Президента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е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х направления бюджетной и налоговой поли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ниципальных программ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 Скорорыбского сельского поселения на 2022 год и плановый период 2023 и 2024 годов сформирован в программном форма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бюджетной и налоговой политики на 2022 год и плановый период 2023 и 2024 г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ение бюджетной устойчивости на 2022 год и среднесрочную перспективу бюджета Скорорыб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достижения цели бюджетной политики предстоит реализовать комплекс мер, направленных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изацию мер по созданию условий для наращивания налогового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истемы муниципа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информационных ресурсов в целях прозрачности и открытости бюджетного процесса, для удовлетворения информационной потребности граждан и организ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араметры проекта бюджета Скорорыбского сельского поселения на 2022 год и плановый период 2023 и 2024 годов.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7715160" cy="3652560"/>
        </p:xfrm>
        <a:graphic>
          <a:graphicData uri="http://schemas.openxmlformats.org/drawingml/2006/table">
            <a:tbl>
              <a:tblPr/>
              <a:tblGrid>
                <a:gridCol w="2373480"/>
                <a:gridCol w="1741320"/>
                <a:gridCol w="1871640"/>
                <a:gridCol w="1728720"/>
              </a:tblGrid>
              <a:tr h="505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юдж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3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4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1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3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3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2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0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2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0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1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3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фицит (-),           Профицит 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Ы БЮДЖ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Organization Chart 7"/>
          <p:cNvGrpSpPr/>
          <p:nvPr/>
        </p:nvGrpSpPr>
        <p:grpSpPr>
          <a:xfrm>
            <a:off x="0" y="1341360"/>
            <a:ext cx="9143280" cy="5515200"/>
            <a:chOff x="0" y="1341360"/>
            <a:chExt cx="9143280" cy="551520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61960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71280" y="3547440"/>
              <a:ext cx="3960" cy="11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41956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200040" y="134136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ходы бюджета-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езвозмездные и безвозврат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оступления денежных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редств в бюджет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 налог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налоговым кодекс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доходы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Единый сельскохозяйствен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имущество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емель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Государственная пошлин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2000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е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еналоговых доход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законодательств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, получаемые от аренда  имущества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земли, находящихся в государственной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муниципальной собственност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 от продажи муниципальног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мущества и земельных участков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*Штрафы за нарушени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онодательств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4004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Безвозмездные поступления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из бюджето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вышестоящих уровней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чие поступления от организаций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Диаграмма 2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6709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ходы бюджета Скорорыбского сельского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836640"/>
          <a:ext cx="8642160" cy="5654520"/>
        </p:xfrm>
        <a:graphic>
          <a:graphicData uri="http://schemas.openxmlformats.org/drawingml/2006/table">
            <a:tbl>
              <a:tblPr/>
              <a:tblGrid>
                <a:gridCol w="2347920"/>
                <a:gridCol w="2081160"/>
                <a:gridCol w="2052720"/>
                <a:gridCol w="216036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здела (подраздел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(без учета условно утвержденны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1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0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24:07Z</dcterms:created>
  <dc:creator>aGaVVa_UTSetup</dc:creator>
  <dc:description/>
  <dc:language>en-US</dc:language>
  <cp:lastModifiedBy>cb-4</cp:lastModifiedBy>
  <dcterms:modified xsi:type="dcterms:W3CDTF">2021-11-25T11:18:57Z</dcterms:modified>
  <cp:revision>71</cp:revision>
  <dc:subject/>
  <dc:title>Администрация Сагуновского сельского поселения Подгоренского муниципального района Воронежской области</dc:title>
</cp:coreProperties>
</file>